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BB0-F75B-4602-98B3-E9DEC415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0DA-BAF2-453F-98B2-8449613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143-265F-42A0-93CB-A978B5BF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D0D-BD17-46E2-AD52-3E4805A3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48D-CB63-4D2F-9203-4DD71478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C15-A3A6-439C-AF2E-7896B1C3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1BB-3F9D-4639-9E54-08679AED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87C-16FD-4932-9C73-A698E1F4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616-2E54-48D6-AFBE-1691D5F9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085-6B97-4C98-926D-92A3E25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C38-6625-445A-9AF9-8D6A512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85B-F36F-426B-A565-D90CFE2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5F7-BA6D-425E-8E6C-CC635F731A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Reading Log #13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-Class Assig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Review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 2-3 sentences, explain the plot up to this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s happened to Scout over the course of the book so fa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has occurred in Maycomb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Visualiz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raw a map or diagram of how the Finches’ neighborhood looks, and draw some other buildings that might surround i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ider locations previously mentioned in the book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em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rite 2-3 sentences about one of the themes in </a:t>
            </a: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To Kill a Mockingbir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is one of the messages or morals so far in the sto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ere have we seen this moral play out in the plo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redict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Write 2-3 sentence explaining the following question: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do you think the last chapters of the book will unfold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7:34:35Z</dcterms:created>
  <dc:creator>.</dc:creator>
  <dc:description/>
  <dc:language>en-US</dc:language>
  <cp:lastModifiedBy>.</cp:lastModifiedBy>
  <dcterms:modified xsi:type="dcterms:W3CDTF">2012-11-08T18:05:48Z</dcterms:modified>
  <cp:revision>2</cp:revision>
  <dc:subject/>
  <dc:title>Reading Log #13</dc:title>
</cp:coreProperties>
</file>